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D43-228C-42FE-9512-07C1E075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AFF-4229-4693-AFFE-C119E10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DBF-9BF2-418C-A2EF-F3E4929B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864-79A1-4806-AFDD-D57C95B9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FE6-28E1-4808-BE3E-0072E8A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406-3E3C-43E3-B679-FBBCDEB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4A9-B38D-4048-B60F-335DC4C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544-4F77-484F-BBC4-78F51E4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F96-5494-443B-B605-ADDAB40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FEE-1631-4F1E-9D07-BFEB8E04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FE6-55BC-4F8D-9E36-BE7B930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C08-2CA6-4867-A60D-BDC6123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B9F6-B037-4EC3-9F1C-9158C6B6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w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will be pictures of sewer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 this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Gill Sans MT Condensed"/>
              </a:rPr>
              <a:t>These are pictures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Gill Sans MT Condensed"/>
              </a:rPr>
              <a:t>of sewerag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2952720" cy="205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3168720" cy="21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42900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842920" y="3573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627280" y="1557360"/>
            <a:ext cx="7207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96000" y="177336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421000"/>
            <a:ext cx="2592360" cy="936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formation on sew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werage is the process of when you flush your toilet or wash things down the drain/sink, it ends up in a sewer d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is one sewerage system which is the stormwa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Franklin Gothic Medium"/>
              </a:rPr>
              <a:t>Cr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Made By: Angelina Nguyen and Teresa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Websites:www.yvw.com.au/waterschool/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36:43Z</dcterms:created>
  <dc:creator>teresa.le</dc:creator>
  <dc:description/>
  <dc:language>en-US</dc:language>
  <cp:lastModifiedBy>teresa.le</cp:lastModifiedBy>
  <dcterms:modified xsi:type="dcterms:W3CDTF">2009-08-04T05:00:55Z</dcterms:modified>
  <cp:revision>3</cp:revision>
  <dc:subject/>
  <dc:title>Sewerage</dc:title>
</cp:coreProperties>
</file>